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9E83-E140-4575-949D-694BC97D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E27E-2F35-497C-BDB3-B5085CDB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BAE2-513D-4F7D-A5EA-7D6266509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858A-0E3C-4808-A37C-879CB6003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3AB0-18A4-4506-9759-CB0E65F4D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7D16-C679-44D6-87B4-AD767BDE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EEC-31D6-49E8-A6E7-B430C4EA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E9E-87EF-4E40-B15E-27540208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488-485E-4015-9A92-7542329B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A09-67DC-4C15-9CC9-41AFC9BF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CAF-A4E5-4CF7-B732-28AAD98B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02C-4340-411B-9A50-735A1E08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002-9BE7-4AAE-8E68-6B270C6A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139-D2E5-40B3-9A97-EB8AFC30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F0F-5DD5-4498-9D4F-34A07F11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064-D15C-4411-842C-3DA6140A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0AF-1886-410B-A568-AAA9CADB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81B-2A47-4574-8EED-747AF0BD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36F7-2E2F-4C18-8F02-46B5A57913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2(Rough Outlin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strike, we still have not been able to go through all of our s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start with looking at student work and talk about responding in the mo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ant participants to work on a problem in tri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does the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responds to that “student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ne records, considers the response and repo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roblem for  participant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n average highway speed to drive (in kilometres/hou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a distance that is not a multiple of th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how many minutes it would take you to drive your distance at your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Possible problem choices (not for sure yet)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 leave a parking lot through two ex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only used Exit A, it would take 1 hour to empty a full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only used Exit B, it would take 1.5 hours to empty a full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would it take to empty a full lot using both ex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Possible problem choices (not for sure yet)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6:21:22Z</dcterms:created>
  <dc:creator>PSteele</dc:creator>
  <dc:description/>
  <dc:language>en-US</dc:language>
  <cp:lastModifiedBy>Marian Small</cp:lastModifiedBy>
  <dcterms:modified xsi:type="dcterms:W3CDTF">2011-06-29T17:12:55Z</dcterms:modified>
  <cp:revision>269</cp:revision>
  <dc:subject/>
  <dc:title>Slide 1</dc:title>
</cp:coreProperties>
</file>